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87B-3DA1-4226-AEE0-8CBCA08D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5CF-5B7A-4982-AF17-F8DC8F33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C1E-22E3-4A1E-99AE-B621D68C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ECC-8D49-47E8-AA52-04031264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E63-85D4-4A45-9DB6-B838209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559-03F2-479B-809E-7FDB76E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A1E-8877-4642-9233-9AD52C2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9C0-5C28-4D03-81A5-A30571B4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1A3-D7FD-43BC-9712-D00E883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CBE-0AD5-4C58-910C-9B82FFE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D3B-930A-4175-9E0F-3E79205E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EBD-9FD6-461D-B7F1-89C1333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A64E-1181-4931-8EF9-D5F26125957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1 B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 nami, Duchu Svät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ď s nami, Duchu Svätý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drahý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 tvojou láskou spä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 stihli večný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svetlom pravdy jas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iaď nášho žitia b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konci púte čas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j u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ásy bre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9:53Z</dcterms:modified>
  <cp:revision>22</cp:revision>
  <dc:subject/>
  <dc:title>Je veľký náš Pán, on slávy je Kráľ Nech do všetkých strán  spev vrúcnych znie chvál.</dc:title>
</cp:coreProperties>
</file>